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D53-8C46-40DE-9162-C4F886ED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5F9-CAE7-4D1F-B26C-69699672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BDB-F673-45FF-B369-3E96AE2F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D3D-B07D-4224-9B9E-440E63F1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6B9-FF7B-4AA1-9B6C-0BD3AD2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65A-553C-48A0-B41B-AFF09B69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D17-C0D9-40BA-9135-223716A6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4D9-C66E-4CDA-A6A3-561D284E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EC8-72C9-4AAA-BA85-EC5C9641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56A-5C94-4489-BFDE-CAF99A4C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362-2522-4A3A-8BC8-3580699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6D2-2E3D-4C17-80E6-4401BE9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2EFF-7427-45D0-BB46-BAFD8A96B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Rachel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533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the genr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1066680"/>
            <a:ext cx="8381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focused on wolves and ther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udience was Mrs. Arezberger and the G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entor text that inspired my work was that animals all over the world are being abused so I had to make a dif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0" y="2209680"/>
            <a:ext cx="66294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thought about my favorite animal and what matters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searched on Google images and put the movie on photo story and thought abou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3962520"/>
            <a:ext cx="5638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had to know were it was and how to do certain things with th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518148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iv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earned that I can help the world 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152280" y="586728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ink I used my heart more than my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proud of how fast I finish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afraid I would never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creat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18:05Z</dcterms:created>
  <dc:creator>ITSUser</dc:creator>
  <dc:description/>
  <dc:language>en-US</dc:language>
  <cp:lastModifiedBy>ITSUser</cp:lastModifiedBy>
  <dcterms:modified xsi:type="dcterms:W3CDTF">2010-02-11T17:44:12Z</dcterms:modified>
  <cp:revision>7</cp:revision>
  <dc:subject/>
  <dc:title>Photo Essay Reflection</dc:title>
</cp:coreProperties>
</file>